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6391-DDF7-4AD9-A7D0-4E74A330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3879-C160-4C9E-B984-B1B011F5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BC9C-6C11-411C-9581-85F6C4B8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A0C5-88E5-4435-890F-DF243CF9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175D-21EB-48C1-9575-E619DCA1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EFA-8DB5-4826-9752-FEEA17DD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9081-9C73-49A9-B8EA-9DD31659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3996-F99A-4C40-ACF6-4FB8BD67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A597-02EA-449C-A841-381E2DD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9D4A-CF1C-4012-92E5-5D62427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9D5D-0DF5-49C6-8880-C9BDD84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C84B-914F-4E80-899E-CC6AC53D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1C9D-331C-44D9-973D-670C5C77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7645-DB29-4CEE-9FF1-3719332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BE32-B5D9-484D-B932-98ACC021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654D-2CAF-49A9-B8EA-4D3506DD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CA53-B780-45BD-B630-FE4BAE65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D080-8284-4DF3-8FB1-3C42BE9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A530-6A66-4EBA-8860-3CCE3897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B66F-E37A-47D9-9B60-4599A147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D814-9699-4567-8107-FA514E0B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0199-A7E1-447D-8177-618F608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7F96-ABE7-4A0C-9E2E-8BE06974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1287-5EBE-4986-8841-F71BB19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6959-72AF-4164-9D90-C1DC96224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0484-2E67-453B-B1B4-B07E99523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MERICA SECEDES FROM THE EMPI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ts Leave 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776 Brits forced to evacuate Boston because of Henry K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h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on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330440" cy="495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943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x: Chief of Artillery; First Sec.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mas Paine: Common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1981080"/>
            <a:ext cx="3009960" cy="388620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8584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the fighting, most colonists deny any intention of Independ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e jolts people out of this view with his pamphlet “Common Sen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basic arg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of civic virt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76360" y="152388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7, 177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Henry L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d for a declaration that Colonies were free and Independ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ed July 2, 177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. Congress commissions an explanation of basis for resolution: Declaration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 Jefferson with help from Franklin and John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671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ocke’s theory on the Rights of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:  Purpose and basis of government is to protect fundamental rights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, Liberty, Pursuit of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:  Bad Acts by King violating these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I: Why colonies have no choice and are justified in being indepe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riots And Loyalis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ists (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 of Pop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,000 leave; 200,000 stay; 50,000 fight for Br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8520" y="1295280"/>
            <a:ext cx="4998960" cy="5410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776, Brits invade New York; Battle of Long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retreats down Manhattan and into New Jer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mas Night.  Washington Crosses the Delaware River.  Captures Trenton and Princet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such a huge victo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ic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goyne’s Blundering Invas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95288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lan in 17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oyne down Lake Champlain ro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 would move north to meet-up with him up the Hudson val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New England from the rest of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nold defeats Burgoyne on Lake Cham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638680" y="2046240"/>
            <a:ext cx="2951280" cy="312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67280" y="56386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nedict Arn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 fails to move north to help Burgo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s Washington,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 defeated twice and goes into winter quarters at Valley 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ible conditions:  Cold and littl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n von Steu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343400" cy="349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334120"/>
            <a:ext cx="426708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Baron von Steuben turns the Continental Army into a REAL army</a:t>
            </a: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t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oyne defeated at Saratoga by Gates/Arnold Oct. 17, 17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enders his entire comm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ignificant win for U.S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ld is the reason for win, but Gates gets the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Continental Congr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exington and Concorde, Minutemen swarm around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Continental Cong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 in Philly a month la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13 colonies send representatives this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 for indepen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nge French Bedfello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support US secretly and provide a great deal of powder and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n’t they support open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heir money and their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f Sarat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lin is minister to France and very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70520" y="1371600"/>
            <a:ext cx="38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y with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78 France offered the American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y of All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rmanent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for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eaty became a problem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1981080"/>
            <a:ext cx="2747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nial War Becomes World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8 the Revolutionary War becomes a World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in against England in 1778.  Spain and Holland come in against England in 1779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and French Navy combined are bigger than 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 now up to their eyeballs in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med Neutr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War in the No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8584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French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drawal of British Navy to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onmouth Court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pins the Brit’s northern forces around New York for the rest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moves to the so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429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w and Counter 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of 1780, 6000 French arrive under Comte de Rochambea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0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dict Arn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ns trai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. strateg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779 Brit. inva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ann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78-79, Brits overrun Ge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780 Brits inva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leston, S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  5000 US soldiers and 400 cannon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fighting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hting in the 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haniel Gr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harge of US forces in the Sou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trategy is to hit and ru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 Brits to chase h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them away from supply bases on the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m to use supp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rilliant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43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2057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in the South, 1780–17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16040" y="384120"/>
            <a:ext cx="6148440" cy="6168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and Frontier And The Sea Fron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76720" y="19807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dians sided with the Br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quois Confederacy spl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4, the pro-British Iroquois forced to sign the treaty of Fort Stanw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Rogers Cl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west and captures Forts Kaskaskia, Cahokia and Vincen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257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rktown And The Final Curt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bleak for US in 1780-8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Cornwallis, had withdrawn back to the Chesapeake Bay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rktown, 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ton and Rochambeau come down from the New York area and bottle up Cornwall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nch Navy beat off the Brits at the mouth of the Chesape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wallis is cut off and surr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he end of the war, but decisive vi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ace At 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rktown many in England, especially, Whigs, weary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III wants to keep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 North’s ministry had collapsed and Whigs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lin, J. Adams and John Jay sent to Paris as peace negotiato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instruc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y they viol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of the Treaty of Paris of 17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ad the ar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ignificant early act of Second Continental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an obvious cho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reasons for choosing Washing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19840" y="1905120"/>
            <a:ext cx="323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th America After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16454" r="0" b="0"/>
          <a:stretch/>
        </p:blipFill>
        <p:spPr>
          <a:xfrm>
            <a:off x="1928880" y="1523880"/>
            <a:ext cx="4987800" cy="51055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 in 17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71600" y="1112760"/>
            <a:ext cx="6477120" cy="5745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hington’s 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520" y="16765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tanding leader of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character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not seek political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elieved in principles of democra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force of patience, discipline and fair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emo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rust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d without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9829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condero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77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an Al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dict Arn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tured British for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condero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wn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pper New Y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precious powder and a number of cann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—cannons are hard to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nker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77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nker Hill/Breeds H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s under Siege in Bo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ia puts forces on Breeds Hi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s under Gage blundered by assaulting the hill directly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s beaten off twice and take heavy casualties, but capture the hill on third 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8 of all Brit officers lost in the war are los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s take a moral vi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Americans false conf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ss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775, Sec. Cont. Congress adopt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ive Branch 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Geo. III respo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. 1775 Geo III hired thousands of German troops to help crush the rebell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64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bortive Conquest Of Can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775, Americans start a two-pronged invasion of Queb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thesis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works militarily, but falls sh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Montgom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dict Arn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2603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21337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asion of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37520" cy="6305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16:27:21Z</dcterms:created>
  <dc:creator>John Steere</dc:creator>
  <dc:description/>
  <dc:language>en-US</dc:language>
  <cp:lastModifiedBy>John Steere</cp:lastModifiedBy>
  <dcterms:modified xsi:type="dcterms:W3CDTF">2007-06-04T00:31:41Z</dcterms:modified>
  <cp:revision>19</cp:revision>
  <dc:subject/>
  <dc:title>Slide 1</dc:title>
</cp:coreProperties>
</file>